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12C-55F4-4459-8BDB-FCD8F755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365-9A7D-4776-B0E5-317A820E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AD2-7831-45F1-929E-93AA19B7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EFB-2AE6-46B3-93B3-9943E34A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212-E741-446A-B1CA-034888D1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05B-8C41-4648-BAB1-338D3387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4BB-47E1-4C20-BFD3-537D87BE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1D9-4313-434A-8047-384597AF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038-052F-4E59-8BCC-6F7A96AB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AB0-4692-4C72-ADE7-2A92197F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241-27BF-4F17-B11B-15564D32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5C2-1184-45A0-BD46-3CF31ECB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E85B-B9D0-42D9-B896-310E0E01B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627" t="0" r="11874" b="5999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31:42Z</dcterms:created>
  <dc:creator>za04499</dc:creator>
  <dc:description/>
  <dc:language>en-US</dc:language>
  <cp:lastModifiedBy>za04499</cp:lastModifiedBy>
  <dcterms:modified xsi:type="dcterms:W3CDTF">2009-02-25T15:33:29Z</dcterms:modified>
  <cp:revision>2</cp:revision>
  <dc:subject/>
  <dc:title>Slide 1</dc:title>
</cp:coreProperties>
</file>